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1A9-96EA-4FC4-ABFF-F197190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28A-AAEE-4919-B356-19FF941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9AE-0362-4164-897B-46F153EF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5EE-5EE4-48B8-AC17-8887A3A0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18B-5CD8-4E2C-8389-FEC7C9AD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71A-4F4A-44AE-87E4-51CCD938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DCD-73A8-476A-8732-A3AEEE6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F41-6499-45F0-BA10-104A330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8DE-6DBA-4627-A221-0DE3F29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89F-B821-4543-BF3C-D768447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7E4-A8B9-4DD8-92F2-E092F9C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EB3-0A60-4232-9429-FA50F4C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00D-3E65-47AE-ABF7-F78B9184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8320" y="2133360"/>
            <a:ext cx="8456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LIG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555720"/>
            <a:ext cx="66247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y: Lauren and Micha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Are Liger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gers are animals from the breeding of a male lion and a female tiger.This combination is a great result of a liger cub.A liger has more lionistic features than a female lion and a male tig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440" y="1568520"/>
            <a:ext cx="9550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a9121"/>
                </a:solidFill>
                <a:latin typeface="Trebuchet MS"/>
              </a:rPr>
              <a:t>What animals do ligers eat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gers eat cows,pigs,a mix of birds,maybe even real African animals like antolope and zebras.Liger can weigh up to 700lbs.Ligers are the largest of all extant fel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tall are liger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igers averrage height is 6 to 8 ft.(the size of a lamp pos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92920" y="0"/>
            <a:ext cx="4195800" cy="752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106200" y="0"/>
            <a:ext cx="6076800" cy="350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-123840" y="3454560"/>
            <a:ext cx="6072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996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19080" y="2743200"/>
            <a:ext cx="5594400" cy="460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586480" y="2743200"/>
            <a:ext cx="4543200" cy="464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060880" y="0"/>
            <a:ext cx="50482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